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7188EA-0A1E-4971-A67C-7BE9CCB9568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33390E-09EE-49E2-BB40-BCD6B3CFA321}"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ADE5A0-F3BF-4177-A088-5937441F080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EBB6-9850-4453-A298-84C6E0C39F8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641EF7-FD7D-466C-9F01-233A0B4AF8C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E7FB-31C2-4EBF-8634-0933E025BFD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9EE2-760A-44C0-8B3C-99663371038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E179-05E3-4B59-94B8-34C0A70CA47F}"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073B-B820-4BEB-8DB3-AB10DDE229F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B908-B2D7-477C-8F29-77B888AE20F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3C20-C279-4BAD-A606-40D121260F8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8880C9D-A49B-49FC-A601-3AF15AB6853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B395-4301-464B-B5D7-5AAF5ADD463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F542EAC-2078-4D58-A52C-864A286C0D1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7810E-3127-44CD-947A-C3AF5474E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50DBD-9397-4435-A448-BD191FBE3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D5FBE-4378-4AE9-A13C-1F625CAF1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1D630-48A1-4EF5-87C2-204EF661F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C5508-4F90-4A2E-8293-D75279381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7F158-A3F9-4BDB-BB4C-33D6FB358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11CD1-4D1B-4C72-94AC-D22C844B0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17BF8-4C99-4787-BBC1-F020CD989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E2227-DC24-40F9-A409-B9A3A7B1F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DC230-04C5-4323-987B-8992A125D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0D069-BB78-4389-8793-490255D53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049FC-BB27-45D5-A1CD-3400F83EF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FB7F-A2F2-49D9-8BA3-49F7C185DAC3}" type="datetime">
              <a:rPr b="0" lang="en-US" sz="1200" spc="-1" strike="noStrike">
                <a:solidFill>
                  <a:srgbClr val="898989"/>
                </a:solidFill>
                <a:latin typeface="Calibri"/>
              </a:rPr>
              <a:t>07/31/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EA15-7E2A-4527-ACE1-AE4B24FDEE2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6C5F-3B71-4592-A9E5-25D4B3C157B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B0B5-C697-424D-9EBD-D3CF96C24D0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E975-6EF6-4094-BB54-DEB66F274D2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2C72-DECB-4FD4-922C-1793BCDC32D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CFC4-CDF8-439C-9D63-41F52E57276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E89A-9FF9-42BE-8CFD-2ABA34C7C3D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5308-99AA-4CA0-A525-433FEA6A770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80A8-0459-4481-95A3-205A5122A46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0218-CB2E-4ADC-AB6A-8D7C26452FF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510C-2456-45F0-AF0A-CAC99CF0FEB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934F-CD10-412F-A42E-61FEE86D963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88CE-5AA6-4706-9DA5-425528E5EF7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7632-DE4A-4FAF-B0C8-068E52B7B45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B4D8F-02FF-4D7B-A54D-5D2B06F342A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A699-8AA1-454B-9A04-BFDAA224150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A9EA-66E1-4683-A30C-C41303767F3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9187-4365-49E3-8CCC-5D0FFA9DBD1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F294-CF20-4250-AC11-8F590A0D786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23EE-4391-44C9-8325-E82BB003169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4CD3-7796-45B0-9248-1735678E25A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D0DA-48DA-4E46-AB10-73DD3313F0F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